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15.gif" ContentType="image/gif"/>
  <Override PartName="/ppt/media/image1.png" ContentType="image/png"/>
  <Override PartName="/ppt/media/image14.gif" ContentType="image/gif"/>
  <Override PartName="/ppt/media/image9.gif" ContentType="image/gi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gif" ContentType="image/gif"/>
  <Override PartName="/ppt/media/image12.jpeg" ContentType="image/jpeg"/>
  <Override PartName="/ppt/media/image7.gif" ContentType="image/gif"/>
  <Override PartName="/ppt/media/image8.gif" ContentType="image/gif"/>
  <Override PartName="/ppt/media/image1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0217-C184-4906-B2DC-D090527D2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A42B-CDA3-4777-AA9C-E5BB76522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59DB-99F0-4D52-8BD3-79E20E6DF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CAC1-818E-44C4-8F3A-83F9706AA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09C2-0860-4ED5-B5A1-2B13A2BED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D362-5647-4AFB-8F66-B87350C66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E2A6-C5BD-4B99-81D7-BFB98581F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0C43-654F-460B-A2B6-62186DF72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3724-C488-43A6-A319-931D7C275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774A-722A-49C9-882B-6BE5E512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4583-940B-4223-8BC0-5DF09CD6C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584D-725A-4ABF-9738-E3D4ABDC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563AF-64BC-468A-A818-2A606167AE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2762280" cy="28576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276720" y="210960"/>
            <a:ext cx="2762280" cy="28576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156360" y="260280"/>
            <a:ext cx="2762280" cy="2857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635280" y="3645000"/>
            <a:ext cx="2762280" cy="2857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468360" y="3573360"/>
            <a:ext cx="27622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1920" cy="18334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635280" y="3500280"/>
            <a:ext cx="4353120" cy="2381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84360" y="476280"/>
            <a:ext cx="161928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4360" y="144360"/>
            <a:ext cx="3591000" cy="22100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643280" y="3284640"/>
            <a:ext cx="3591000" cy="23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4360" y="836640"/>
            <a:ext cx="3429000" cy="3048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859280" y="3429000"/>
            <a:ext cx="38098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156360" y="1052640"/>
            <a:ext cx="2104920" cy="2314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356000" y="4005360"/>
            <a:ext cx="3390840" cy="2190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755640" y="3429000"/>
            <a:ext cx="28670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1T21:06:36Z</dcterms:created>
  <dc:creator>Deterchimica</dc:creator>
  <dc:description/>
  <dc:language>en-US</dc:language>
  <cp:lastModifiedBy>Deterchimica</cp:lastModifiedBy>
  <dcterms:modified xsi:type="dcterms:W3CDTF">2006-03-31T21:12:25Z</dcterms:modified>
  <cp:revision>2</cp:revision>
  <dc:subject/>
  <dc:title>Diapositiva 1</dc:title>
</cp:coreProperties>
</file>