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FB7-43AB-459A-B3C3-0847DB1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932-0EE8-4496-B890-BC504EFE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025-7AEF-46D8-9CCE-44B8DEE9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890-EC55-4B46-942C-FE6008B3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903-EA70-4D58-8F8B-BC00F5C0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C34-86B6-4DF6-881A-1EE4776B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EBE-B88A-4111-AD61-70E89B7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FCF-CDCB-41CA-84E4-D433622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A23-65C7-4033-90BE-F7BD82EE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135-C121-4835-8EC7-AD594EFA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6C9-1623-4BE0-A172-C8CBD4E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7E4-D954-49DD-8903-C8EFADD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6A1-D6C8-42C4-8942-547AFFDC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213000"/>
            <a:ext cx="4392720" cy="302436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690480 h 3024360"/>
              <a:gd name="textAreaBottom" fmla="*/ 2333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14920" y="3933720"/>
            <a:ext cx="342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in eve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all you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be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Have a happy Father’s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66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addy D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98100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68360" y="6381720"/>
            <a:ext cx="47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103824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1495440"/>
            <a:ext cx="18478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149544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3280" y="1495440"/>
            <a:ext cx="162900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588000" y="149544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184560"/>
            <a:ext cx="514332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66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Kristen ITC"/>
              </a:rPr>
              <a:t>Daddy D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981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997080" y="6381720"/>
            <a:ext cx="43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1557360"/>
            <a:ext cx="342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in eve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all you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 love you for being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Daddy Daddy let me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Have a happy Father’s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07:42:37Z</dcterms:created>
  <dc:creator>Direzione Didattica Nocera Sup.</dc:creator>
  <dc:description/>
  <dc:language>en-US</dc:language>
  <cp:lastModifiedBy>Arianna</cp:lastModifiedBy>
  <dcterms:modified xsi:type="dcterms:W3CDTF">2006-03-20T15:10:24Z</dcterms:modified>
  <cp:revision>18</cp:revision>
  <dc:subject/>
  <dc:title>Diapositiva 1</dc:title>
</cp:coreProperties>
</file>