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F9D-219F-438C-9D4C-F99E4AFC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A23-3033-4664-84D8-336379A0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15C-DADA-498B-872E-96222BC8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80B-D606-45AC-9E43-A764F941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54E-CA9B-4504-AC48-326E5660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9D7-4D90-4D43-B4DC-BE21B286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D69-D2EB-4B73-9069-CB0B005A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2D1-1511-4D57-BC3F-C0723CCB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1E8-339E-4176-B0F5-B1C9013C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82C-BF0D-422A-ACEE-CDB6FA7D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3D0-01F8-4BFA-BEFB-4CB012B9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A61-6B52-41E4-9755-171266E1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22D4-1001-47EA-BB70-3DFA6DA3F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PRIM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AUTU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 rispondere ad un saluto, presentarsi e chiedere il nome delle persone, comprendere ed eseguire istruzioni e procedure, identificare, abbinare colori, riconoscere e riprodurre suoni e ritmi della L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ormule di saluto, espressioni per dire e chiedere il proprio nome, semplici istruzioni correlate alla vita di classe quali l’esecuzione di un compito o lo svolgimento di un gioco (go, come, show, give, point, sit down, stand up, …), ambiti lessicali relativi a colori, a num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35040" y="3068640"/>
          <a:ext cx="7873920" cy="226692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 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alizzare con i compagni e gli insegnanti nei primi scambi di inform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gire in modo semplice per scambiare dati person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 e rispettare il mondo de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ti (Hello, goodby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azioni (What’s your name?Hello, I’m, Hello, my name is…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(1-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 How many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i (green, red, yellow, orange, brow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imali (squirrel, mous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ruzioni di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11280" y="573408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otori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municazione non- linguistica attraverso il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usica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all’immagin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rricchimento lessic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numerazion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noscenza e rispetto per il mondo della nat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PRIM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WI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d eseguire istruzioni e procedure, identificare, abbinare colori, riconoscere e riprodurre suoni e ritmi della L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emplici istruzioni correlate alla vita di classe quali l’esecuzione di un compito o lo svolgimento di un gioco (go, come, show, give, point, sit down, stand up, …), ambiti lessicali relativi a colori, a num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637000"/>
          <a:ext cx="7873920" cy="2447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alizzare con i compagni e l’insegnante negli scambi di informazion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 e rispettare il mondo de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famiglia (mum, dad, grandma, grandpa, sister, brothe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i (white, black, pink, purple, blu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(6-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many?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s this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o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season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colour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ruzioni di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ole 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11280" y="573408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otori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municazione non- linguistica attraverso il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usica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all’immagin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rricchimento lessic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numerazion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noscenza e rispetto per il mondo della nat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PRIM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d eseguire istruzioni e procedure, identificare oggetti, eseguire semplici calcoli, riconoscere e riprodurre suoni e ritmi della L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emplici istruzioni correlate alla vita di classe quali l’esecuzione di un compito o lo svolgimento di un gioco (go, come, show, give, point, sit down, stand up, …), ambiti lessicali relativi a oggetti di uso com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35040" y="2708280"/>
          <a:ext cx="7873920" cy="284328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mbiare semplici informazioni relative all’ambiente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 e rispettare il mondo de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scuola (school, rubber, ruler, pencil, book, bag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many?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season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rale dei no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plici operazioni matemat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ruzioni di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’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zione autonoma di semplici fra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11280" y="573408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otori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municazione non- linguistica attraverso il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usica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all’immagin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rricchimento lessicale, rinforzo delle strutture grammaticali relative al singolare e plurale dei nomi, uso degli aggettiv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noscenza e rispetto per il mondo della natura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semplici numerazioni matemat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PRIM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SUM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d eseguire istruzioni e procedure, identificare animali, riconoscere e riprodurre suoni e ritmi della L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emplici istruzioni correlate alla vita di classe quali l’esecuzione di un compito o lo svolgimento di un gioco (go, come, show, give, point, sit down, stand up, …), ambiti lessicali relativi a animali domest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2766960"/>
          <a:ext cx="7873920" cy="217476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ttere sull’aspetto di persone per fornire semplici descri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 e rispettare il mondo de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i animali (bee, butterfly, frog, cat, dog, bird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’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rale dei no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 viso (face, hair, nose, mouth, eyes, ear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ruzioni di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11280" y="573408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otori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municazione non- linguistica attraverso il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usica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all’immagin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rricchimento lessic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numerazion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noscenza e rispetto per il mondo della natura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scienz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il mondo anim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a salut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il mio 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rinforzo delle strutture grammaticali relative al singolare e plurale dei no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Arianna</cp:lastModifiedBy>
  <dcterms:modified xsi:type="dcterms:W3CDTF">2006-10-05T14:05:39Z</dcterms:modified>
  <cp:revision>142</cp:revision>
  <dc:subject/>
  <dc:title>Diapositiva 1</dc:title>
</cp:coreProperties>
</file>