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9B0-91E9-4E56-B59C-45448BB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BDB-9604-4B76-AF1C-477740F1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C34-572C-4C20-A332-1D992A44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656-577C-4CE9-836A-C3C45FFF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C96-F3FB-490F-A67A-5618ECF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F46-FED5-447D-9FA6-C6F2A68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89D-5601-4618-9D7F-86C0BCE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F45-7BDC-4443-BB85-F01D433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C06-4A79-4DB7-BC4F-6D71259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184-52AA-4D18-B8B6-D846DEA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797-4441-4A70-ABF9-6502666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7F2-3E94-425A-B060-22B7247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65E1-32D8-46A3-BBE8-03244431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HAPPY FA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nteragire in brevi scambi dialogici monitorati dall’insegnante e stimolati anche con supporti visivi; descrivere oralmente sé e i compagni utilizzando il lessico conosciut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hiedere e dare informazioni personali; descrivere ed individuare pers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el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esente dei verbi “be” “have” e “ca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3068640"/>
          <a:ext cx="7873920" cy="2771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, comprendere e utilizzare espressioni di uso quotidiano per stabilire rapporti interpersonali posi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re e comprendere gli elementi principali di brevi descrizioni ascoltate o lette per ricavare informazioni e riutilizzarle in modo adeguato e significativ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nformazioni che riguardano la civiltà del paese di cui si studia la lingu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, presentazioni e forme di cort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e feste di complean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 parti del viso e caratteristiche fis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’ve got… Her/she has got… Have you got…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e allo sport e alla mus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 can/can’t he/she can/can’t… can you…? Yes, I can/No, I can’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ksgiv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bby e passatempi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rammi e tab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 alla salute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l mio cor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HAUNTED H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luoghi e oggetti utilizzando il lessico conosci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crivere semplici messaggi seguendo un modello 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ed individuare luoghi e ogge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ei luog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onome interrogativo “wher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997360"/>
          <a:ext cx="7873920" cy="2627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descrivere un ambiente e le sue caratteri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edere e dare informazioni che riguardano la localizzazione di oggetti all’interno della ca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re personaggi fantastici e stor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d ambienti, arredi ed oggetti domest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izzazione di oggetti, animali e pers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where’s the…? It’s in/on/under th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i ambienti domest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here’s a… in the… / there isn’t a… in th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 Christmas and Na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 Day and Christmas fo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lettura e scrittura e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ruzione di uno storyboo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CLOTHES AND FOOD SHOPP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sé e i compagni, persone, luoghi e oggetti utilizzando il lessico conosciut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ringraziare,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hiedere e dire il prezzo, descrivere ed individuare oggetti, dire ciò che piace e non pi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sistema monetario inglese, cibi e bevande, abbiglia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esente del verbo “can”, verbi di uso continuo al present continuous, aggettivi qualificativi, pronomi interrogativi “what” e “how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3068640"/>
          <a:ext cx="7873920" cy="27003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vere il proprio e l’altrui 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mandare e rispondere sui gusti alimenta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, riutilizzare e rispettare alcuni semplici elementi formali della lingua per una comunicazione progressivamente più accur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sulle abitudini e le festività del paese strani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’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el proprio e dell’altrui 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’m wearing… / what are you wearing? / he-she is wearing… / is-she wearing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 cibo e beva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 like… / I don’t lik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can I have some…, pleas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How much is tha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ake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monetario ingle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rammi e tab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cienz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educazione aliment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PLACES IN 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luoghi utilizzando il lessico conosci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ed individuare luogh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i luoghi (città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interrogativi “wher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3249720"/>
          <a:ext cx="7873920" cy="2555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descrivere ed individuare luoghi ed elementi di un centro abita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chiedere e dare indicazioni riguardanti la localizzazione di luoghi ed edifici cittad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nformazioni che riguardano la civiltà del paese di cui si studia la lingua e scoprire differenze cult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sulle abitudi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: luoghi cittadini ed elementi urb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i un centro abita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here’s a… in my town / is there a … ? / yes, there is / no, there isn’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izzazione di luoghi ed edifici cittad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where is the…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zioni strad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urn left, turn right, go straight 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negozi londin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resentazione grafica di un centro urb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astrocca (skipping rhym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lettura e scrit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41440" y="5950080"/>
            <a:ext cx="79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Geografia: la descrizione dei centri abit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DIREZIONE</cp:lastModifiedBy>
  <dcterms:modified xsi:type="dcterms:W3CDTF">2006-10-18T14:09:51Z</dcterms:modified>
  <cp:revision>99</cp:revision>
  <dc:subject/>
  <dc:title>Diapositiva 1</dc:title>
</cp:coreProperties>
</file>