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46E-70E9-4DF6-A4FD-4C05834D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996D-4891-48CE-A7D1-E7A08249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7AA-CBBE-4B6D-987D-5F9D8760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02F-98AB-495F-A879-BC7E8BEF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292B-694F-45CC-A4ED-E6D71736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F381-E77B-4FAF-9B28-710DF0FD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FD4B-4744-4094-AA5E-A40661E5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CAC-4B03-4F7F-8E58-427B2DE1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3B3-69AE-4437-B8AF-8F20DE87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2771-023E-4253-9FB4-79EC07D7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3F2-44A0-43C5-9DA6-EDD029C7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9D3-997D-4C24-9E10-8478E004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EAD7-B99E-4EF0-BBC5-972955BF9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333360"/>
            <a:ext cx="806436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QUINTA [ 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1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SPORT AND DAILY ROUT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Interagire in brevi scambi dialogici monitorati dall’insegnante e stimolati  anche con supporti visivi. Rilevare diversità culturali in relazione ad abitudini di v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funzioni per: chiedere e dire l’ora, dire e chiedere ciò che piace e non piace chiedere e dare informazioni person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Lessico relativo a: orario, cibi e bevan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Riflessioni sulla lingua: presente dei verbi “be”, “have” e “can”, verbi di uso comune al simple present, aggettivi dimostrativi; interrogativi: who, what, where, h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iviltà: principali tradizioni, festività e caratteristiche culturali del paese stran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12720" y="2844720"/>
          <a:ext cx="7846920" cy="3176640"/>
        </p:xfrm>
        <a:graphic>
          <a:graphicData uri="http://schemas.openxmlformats.org/drawingml/2006/table">
            <a:tbl>
              <a:tblPr/>
              <a:tblGrid>
                <a:gridCol w="1928880"/>
                <a:gridCol w="3032280"/>
                <a:gridCol w="2885760"/>
              </a:tblGrid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 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ostare dialoghi guidati che implicano informazioni sulle persone e sull’ambiente circosta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endere il mutare del tempo cronologico per gestire le proprie attività quotidia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agire per sviluppare atteggiamenti  di positivo confronto interpersonale e rispetto delle rego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la capacità di confrontarsi con civiltà diverse dalla prop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‘s your name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do you spell that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‘s your telephone number 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’s your address 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re’s (Michel) from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’m from…,He’s/She’s from…..,We’re fro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’s this? What are these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likes/She likes (swimminng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/She doesn’t like (dancing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s/h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’s the time? IT’s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 get up at….,I go to school at…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/She gets up at…,he/she goes to school  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time do you….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 breakfast, I have toast and jam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llowe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 sport in Gran Bretag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loghi: drammatizzazione di semplici situazioni comunic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mim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zazione di cartoncini e decorazio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 and 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612720" y="6095880"/>
            <a:ext cx="777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Raccordi interdisciplinari: Italiano: 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Consolidamento dell’alfabeto in L1; arricchimento lessicale - la comunicazione verbale e non </a:t>
            </a: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Ed.al suono: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 esecuzione di canzoni e filastrocche- </a:t>
            </a: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Ed.immagine: 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Attività grafico-pittoriche </a:t>
            </a: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Storia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: il tempo cronologi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89000"/>
            <a:ext cx="806472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QUINTA [ I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2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SCHOOL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Intergaire in brevi scambi dialogici monitorati dall’insegnante e stimolati anche con supporti visivi, descrivere oralmente luoghi utilizzando il lessico conosciuto, scrivere semplici messaggi seguendo un modello dato, rilevare diversità culturali in relazione ad abitudini di v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Funzioni per: descrivere ed individuare luoghi, chiedere e dare informazioni person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Lessico relativo a: numeri fino a 100, descrizione di luogh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Riflessioni sulla lingua: presente dei verbi “be”, “have” e “can”, verbi di uso comune al simple present, interrogativi: h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iviltà: principali tradizioni, festività e caratteristiche culturali del paese stran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35040" y="2962440"/>
          <a:ext cx="7873920" cy="255420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ostare dialoghi guidati che implicano informazioni sui luoghi della propria città e sulle caratteristiche della propria scuo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a cultura britann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do you go to school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 go/he-she goes to school by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 have English on… at…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zzi di comunicazione e traspor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uoghi urba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terie scolastic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eri 60-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flessione lingui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ristm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 scuola in Gran Bretag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 e a squad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di semplici sto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rappresentazione graf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toncini e messaggi augur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ti e filastrocc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611280" y="5734080"/>
            <a:ext cx="7777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Raccordi interdisciplinari: Italiano: 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arricchimento lessicale – </a:t>
            </a: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Convivenza civile: 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educazione stradale – </a:t>
            </a: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Ed. ambientale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: l’inquinamento – </a:t>
            </a: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Ed.al suono: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 esecuzione di canzoni e filastrocche- </a:t>
            </a: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Ed.immagine: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Attività grafico-pittoric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189000"/>
            <a:ext cx="806472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QUINTA [ II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3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CELEBRATIONS AND THE WEA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: Intergaire in brevi scambi dialogici monitorati dall’insegnante e stimolati anche con supporti visivi, descrivere oralmente luoghi utilizzando il lessico conosciuto, comprendere semplici e chiari messaggi con lessico e strutture noti su argomenti familiari, produrre suoni e ritmi della L2 attribuendovi significati e funzioni, scrivere semplici messaggi seguendo un modello dato, rilevare diversità culturali in relazione a condizioni climatich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Funzioni per: chiedere e parlare del tempo atmosferico, per chiedere e dare e permes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Lessico relativo a: tempo atmosferico, giorni, mesi, anni, stagio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Riflessioni sulla lingua: presente dei verbi “be” e “can”, verbi al present continuous, interrogativi: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iviltà: principali tradizioni, festività e caratteristiche culturali del paese stran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11280" y="2852640"/>
          <a:ext cx="7777080" cy="3152880"/>
        </p:xfrm>
        <a:graphic>
          <a:graphicData uri="http://schemas.openxmlformats.org/drawingml/2006/table">
            <a:tbl>
              <a:tblPr/>
              <a:tblGrid>
                <a:gridCol w="1873080"/>
                <a:gridCol w="3456000"/>
                <a:gridCol w="2448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endere il mutare del tempo atmosferico per interpretare il mondo circosta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a cultura britann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October/On the first of Janua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I have a party? Yes, of course you can – no, sorry, you can’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’s the weather like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’s sunny, 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/She’s re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si dell’an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gio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eri ordin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o atmosfer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stività e ricorrenz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flessione lingui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 continuo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osizioni (on, 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sporto a Lond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ther’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gni e ca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loghi: drammatizzazione di semplici situazioni comunic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mim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zazione di cartonci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 and 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539640" y="6093000"/>
            <a:ext cx="770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Raccordi interdisciplinari: Italiano: 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arricchimento lessicale; rinforzo delle strutture grammaticali relative alle preposizioni - </a:t>
            </a: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Ed. al suono: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esecuzioni di canzoni e filastrocche – </a:t>
            </a: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Ed. all’immagine: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attività grafico-pittoric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189000"/>
            <a:ext cx="80647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QUINTA [ IV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4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ROBIN H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Descrivere oralmente persone utilizzando il lessico conosciuto, rilevare diversità culturali in relazione ad abitudini di v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Funzioni per: descrivere ed individuare pers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Lessico relativo a: descrizione delle pers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Riflessioni sulla lingua: presente dei verbi “be”, “have”, “can”, aggettivi qualifica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iviltà: principali tradizioni, festività e caartteristiche culturali del paese stran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5040" y="2766960"/>
          <a:ext cx="7873920" cy="219240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ilizzare il lessico noto in situazioni comunicative re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 alla civiltà britann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/she’s ki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/She’s got blond hai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ve/Don’t give me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you sing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gettivi qualificativ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y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itish Holiday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s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con le flashca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di comunic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loral g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ascolto e comprens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toncini e messaggi augur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611280" y="55324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Raccordi interdisciplinari: Italiano: 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Arricchimento lessicale – rinforzo delle strutture grammaticali relative agli aggettivi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Ed. al suono: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esecuzioni di canzoni e filastrocche –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Ed. all’immagine: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ttività grafico-pittoric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6:06:50Z</dcterms:created>
  <dc:creator>Arianna</dc:creator>
  <dc:description/>
  <dc:language>en-US</dc:language>
  <cp:lastModifiedBy>Arianna</cp:lastModifiedBy>
  <dcterms:modified xsi:type="dcterms:W3CDTF">2006-10-31T19:06:45Z</dcterms:modified>
  <cp:revision>218</cp:revision>
  <dc:subject/>
  <dc:title>Diapositiva 1</dc:title>
</cp:coreProperties>
</file>