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0CD-AAB3-4BB4-BE85-2A37C4B6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D43-1CE0-4B63-B090-CC42A261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7DA-67D2-4EB2-8956-09C1AD2B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15E-757D-4D8B-8F1E-85A1D6B5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467-997E-470C-861E-D0251047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222-44C1-4A06-A358-3540AF0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10F-290C-464D-830E-975F86E9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376-7545-416A-BFA0-564B975E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273-DD51-439A-983F-EA26BAEC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F2A-719A-4D10-8210-EBB6628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D87-17FE-4885-B3D0-0E86F999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4EC-4E79-49B8-BE40-4960B09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7F76-ED4A-4C26-A70D-03FD60EF2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8064720" cy="20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SECONDA [ 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arole, scoprire differenze culturali all’interno dei gruppi (scolastic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ttere dell’alfabeto, suoni della L2, espressioni utili per semplici interazioni (comprendere domande e istruzioni, seguire indicazioni), ambiti lessicali relativi all’ambiente scolast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35040" y="2852640"/>
          <a:ext cx="7873920" cy="26240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 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re lettere e suoni della L2 in situazioni di interazione personale e in contesti lud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’alfabet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your favourite colour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 favourite colour’s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can se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e’s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s is my/your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many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scuola (chair, table, teacher, clock, balckboard, window, desk, door, cupboar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sulla ling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ticoli indeterminativi (a/a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degli aggettiv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lowe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84360" y="602136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nsolidamento dell’alfabeto in L1; arricchimento lessicale- la comunicazione verbale e non, uso degli aggettivi, articoli indeterminativi 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Convivenza civil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l’importanza di comportarsi bene in clas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8900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SECONDA [ 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2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arole, percepire il ritmo e l’intonazione come elementi comunicativi per esprimere piacere e dispiacere,scoprire differenze culturali all’interno dei gruppi (familiari, scolastici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uoni della L2, espressioni utili per semplici interazioni (comprendere domande e istruzion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35040" y="2637000"/>
          <a:ext cx="7873920" cy="24476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si in relazione con gli altri per scambiare informazioni person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e’s so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this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you like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like…/I don’t like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o (fish, cheese, yoghurt, bread, rice, pasta, chocolate, ice cream, soup,…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ti (breakfast, lunch, dinn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rist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 e a squad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di semplici sto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ole 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appresentazione graf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ti e filastroc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11280" y="5734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arricchimento lessical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esecuzione di canzoni e filastrocche-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imentar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le abitudini aliment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89000"/>
            <a:ext cx="8064720" cy="20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SECONDA [ I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CLOT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arole, seguire semplici istruzioni, numerare, classificare ogget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uoni della L2, espressioni utili per semplici interazioni (comprendere istruzioni, seguire indicazioni), ambiti lessicali relativi ad oggetti person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35040" y="2708280"/>
          <a:ext cx="7873920" cy="284328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bilire contatti sociali utilizzando linguaggi verbali e non verbal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t on/Take off your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igliamento (t-shirt, shirt, skirt, shoe, hat, jumper, sock, belt, trousers, …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lingui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golare e plurale dei no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her’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595008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: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arricchimento lessicale; rinforzo delle strutture grammaticali relative al singolare e plurale dei nom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 suono: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i di canzoni e filastrocch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’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9000"/>
            <a:ext cx="806472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SECONDA [ IV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4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AN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arol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uoni della L2, espressioni utili per semplici interazioni (comprendere doman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5040" y="2766960"/>
          <a:ext cx="7873920" cy="217476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bilire contatti sociali in luoghi di vita quotidiana espressi con articolazione chi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o’s this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s is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’s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/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imali (dog, cat, snake, mouse, tiger, bird, monkey, rabbit, hamst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con le flashca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di comunic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al 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ascolto e compren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11280" y="553248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rricchimento lessical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esecuzioni di canzoni e filastrocch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’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Scienz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il mondo ani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06:50Z</dcterms:created>
  <dc:creator>Arianna</dc:creator>
  <dc:description/>
  <dc:language>en-US</dc:language>
  <cp:lastModifiedBy>Arianna</cp:lastModifiedBy>
  <dcterms:modified xsi:type="dcterms:W3CDTF">2006-10-05T14:11:06Z</dcterms:modified>
  <cp:revision>164</cp:revision>
  <dc:subject/>
  <dc:title>Diapositiva 1</dc:title>
</cp:coreProperties>
</file>