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5C0-4367-4DFA-8593-998C110B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FEE5-F947-4F54-9C00-46723F27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25B-9C44-45DD-83EC-90AE72C5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AB8-D286-47D9-A7A2-C0F19234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2A3D-28CA-464E-9BEF-16D92E51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10F-9763-49A1-A6F4-C73AECDC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E24-BE2E-41D4-8A05-28508226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D04-7DD6-47BB-B052-3DE7FA14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3ED-4E76-4A40-B8F2-E6BA0EEB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4F1-9CBC-4CFC-B012-62B31EAD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ABA-B649-417E-BD9D-A7746973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468-FD7B-49B9-B161-D833A8E3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5B3F-88B1-4CE5-AD25-9BE25EE43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549360"/>
            <a:ext cx="80647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TERZA [ 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1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MY BIRTHDAY AND MY FAM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Individuare e riprodurre suoni, abbinare suoni/poarole, percepire il ritmo e l’intonazione come elementi comunicativi per esprimere emozioni, presentare se stessi e gli altri, chiedere e dire l’età, numerare ogget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Lettere dell’alfabeto, suoni della L2, espressioni utili per semplici interazioni (comprendere domande e istruzioni), ambiti lessicali relativi all’ambiente familiare, all’età, ai numeri (1-5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35040" y="2852640"/>
          <a:ext cx="7873920" cy="338436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 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ostare dialoghi guidati che implicano informazioni sulle persone e sull’ambiente circosta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re in diverse situazioni la propria emotivi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a cultura britan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uti e presentaz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’alfabeto e lo spell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’s your name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’m 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old are you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’m 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is is my m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’m/he’s/she’s happy/sad/quiet/nois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eri (1-5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rthday (present, candle, balloon, birthday cake, party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 famiglia (gran, dad, grandad, brother, mum, baby, siste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flessione sulla lingu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urale dei nom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o degli aggettiv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llowee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 Britai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gni e ca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hi: drammatizzazione di semplici situazioni comunic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mim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zazione di cartoncini e decoraz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684360" y="6308640"/>
            <a:ext cx="763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Consolidamento dell’alfabeto in L1; arricchimento lessicale- la comunicazione verbale e non 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Matematica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numerazioni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al suo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esecuzione di canzoni e filastroc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immagi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Attività grafico-pittori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89000"/>
            <a:ext cx="806472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TERZA [ I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2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WILD ANIM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Individuare e riprodurre suoni, abbinare suoni/par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Suoni della L2, espressioni utili per semplici interazioni (comprendere doman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35040" y="2637000"/>
          <a:ext cx="7873920" cy="244764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viluppare forme di curiosità, interesse, rispetto verso ogni forma della realtà ambient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a cultura britan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’s this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’s a 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it a …? Yes/N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imali selvatici (monkey,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nake</a:t>
                      </a: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elephant, crocodile, lion, giraffe, tiger, parrot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flessione lingui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ticoli indeterminativi (a/a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o degli aggettiv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ristm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 e a squad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di semplici sto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rappresentazione graf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oncini e messaggi aug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ti e filastroc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611280" y="5734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arricchimento lessicale –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Scienze: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gli animali selvaggi –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al suo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esecuzione di canzoni e filastrocche-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immagi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Attività grafico-pittori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189000"/>
            <a:ext cx="80647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TERZA [ II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3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MY SCHOOL AND MY BO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:Individuare e riprodurre suoni ;abbinare suoni/parole;seguire semplici istruzioni,eseguire ordini;individuare luoghi e oggettti familiari e descriverne le caratteristiche general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:Espressioni utili per semplici interazioni ( comprendere domande e istruzioni);ambiti lessicalui relativi all’ambiente scolastico, a dimensione e forma  degli oggetti  di uso comu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11280" y="2492280"/>
          <a:ext cx="7873920" cy="332748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2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bilire contatti sociali utilizzando linguaggi verbali e non verbal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ostare dialoghi guidati che implicano informazioni sulle persone e sull’ambiente circostan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ndere consapevolezza del proprio corpo e dei bisogni primar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a cultura britannic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t down/Open/Pick up/Clos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’ve got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ve you got…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/She/It has go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’s …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’s/He’s/She’s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ggetti scolastici (rubber, bag, pencil case, felt-tip pen, ruler, pencil sharpene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uoghi scolastici (classroom, toilet, library, playgroun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 corpo umano (body, head, hand, arm, foot, leg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gettivi (short, tall, small, big, horrible, lovely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flessione lingui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golare e plurale dei nomi (regolare e irregolar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o degli aggettiv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glish schoo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ther’s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gni e ca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hi: drammatizzazione di semplici situazioni comunic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mim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zazione di cartonci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39640" y="5950080"/>
            <a:ext cx="78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: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arricchimento lessicale; rinforzo delle strutture grammaticali relative al singolare e plurale dei nomi, gli aggettivi-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la salut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il mio  corpo –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 suono: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esecuzioni di canzoni e filastrocche –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l’immagi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attività grafico-pittori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189000"/>
            <a:ext cx="80647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TERZA [ IV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4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MY F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Percepire il ritmo e l’intonazione come elementi comunicativi per esprimere piacere o dispiacere; scoprire differenze culturali all’interno dei gruppi famili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Espressioni utili per semplici interazioni (chiedere qualcosa,comprendere doman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5040" y="2766960"/>
          <a:ext cx="7873920" cy="219240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flettere sul rapporto tra abitudini alimentari e salu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 alla civiltà britan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’s your  favourite food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 like/I don’t like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you like……..…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o(chocolate,sandwiches,cheese,bananas,orange juice eggs,pasta,tea, rice, chicken, pizza, toast ,chips, salad, ice cream, lunchbo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sti inglesi(breakfast,lunch dinne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s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con le flashca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di comunic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loral g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ascolto e comprens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oncini e messaggi aug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611280" y="5532480"/>
            <a:ext cx="77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Arricchimento lessicale –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alimentar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le abitudini alimentari-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la salut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il mio  corpo –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 suo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esecuzioni di canzoni e filastrocche –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l’immagi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attività grafico-pittori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6:06:50Z</dcterms:created>
  <dc:creator>Arianna</dc:creator>
  <dc:description/>
  <dc:language>en-US</dc:language>
  <cp:lastModifiedBy>Arianna</cp:lastModifiedBy>
  <dcterms:modified xsi:type="dcterms:W3CDTF">2006-10-05T14:01:15Z</dcterms:modified>
  <cp:revision>188</cp:revision>
  <dc:subject/>
  <dc:title>Diapositiva 1</dc:title>
</cp:coreProperties>
</file>