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7C6-AD31-442B-AC3E-93D2C190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A1B-5E88-4525-A9BF-EE68337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F5D-55BD-476B-9DD4-DA328FA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78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062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78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DBB-0001-42CB-A4EC-A760E275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056-D149-429D-B0AE-F404CAB1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BEE-9EBC-43EA-A747-04E09FF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8684-5EF7-4BCD-8447-617C7B9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97F-37F1-4A68-BEE9-9884B90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0223-8615-435C-8D86-2BB6CB2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06280" y="455400"/>
            <a:ext cx="7242120" cy="62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65E5-664B-4A2C-8367-50860FA8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727-A4D1-45ED-9E89-4E4CF45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176-F3DE-470E-898A-0BA208A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60BF-EAD9-4415-9103-EEA01DF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560-10BE-4271-88F3-A373D38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7BB-B2F0-4B73-8025-DBA3438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9585-33E7-461F-AF6C-BD7A3CA7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78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984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062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78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984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3DF-5B89-4CDD-9E57-B7A5B052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A8F-F19D-4B41-BCAD-3AD97D8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28C-F13E-4F0F-97BA-BFAC4EC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F6B-10FC-45DB-9F93-5175E30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6280" y="455400"/>
            <a:ext cx="7242120" cy="62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C86-7C22-4D91-9A90-0104CB24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1D8-8E5E-409B-9FC5-F5A4D96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76B-1BEB-4F50-886F-4DCB4C3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CB3-387E-4150-B408-78E321E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64240"/>
            <a:ext cx="28497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564240"/>
            <a:ext cx="33260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1800" y="6564240"/>
            <a:ext cx="1785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37E8-0824-46D2-ACDF-CF8CD4069D6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3240" y="2130120"/>
            <a:ext cx="5484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564240"/>
            <a:ext cx="28497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564240"/>
            <a:ext cx="33260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71800" y="6564240"/>
            <a:ext cx="1785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4CA9-B03C-4018-9041-C0723C1AD228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71800" y="3730320"/>
            <a:ext cx="537696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ou can print this template to use it as a wall calendar, or you can copy the page for any month to add it to your own presenta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f you’d like to change the appearance of the calendar, you can apply a new design templat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73240" y="2130120"/>
            <a:ext cx="5484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2005-2006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chool Year Calenda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arch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pril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a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ne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l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6640" y="1801800"/>
          <a:ext cx="7251120" cy="4533480"/>
        </p:xfrm>
        <a:graphic>
          <a:graphicData uri="http://schemas.openxmlformats.org/drawingml/2006/table">
            <a:tbl>
              <a:tblPr/>
              <a:tblGrid>
                <a:gridCol w="1057680"/>
                <a:gridCol w="1014480"/>
                <a:gridCol w="1035000"/>
                <a:gridCol w="1036800"/>
                <a:gridCol w="1035000"/>
                <a:gridCol w="1038600"/>
                <a:gridCol w="1033560"/>
              </a:tblGrid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ly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06640" y="1801800"/>
          <a:ext cx="7251120" cy="4533480"/>
        </p:xfrm>
        <a:graphic>
          <a:graphicData uri="http://schemas.openxmlformats.org/drawingml/2006/table">
            <a:tbl>
              <a:tblPr/>
              <a:tblGrid>
                <a:gridCol w="1057680"/>
                <a:gridCol w="1014480"/>
                <a:gridCol w="1035000"/>
                <a:gridCol w="1036800"/>
                <a:gridCol w="1035000"/>
                <a:gridCol w="1038600"/>
                <a:gridCol w="1033560"/>
              </a:tblGrid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ugust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pt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Octo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v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c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anuar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ebruar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46:13Z</dcterms:created>
  <dc:creator>Arianna</dc:creator>
  <dc:description/>
  <cp:keywords/>
  <dc:language>en-US</dc:language>
  <cp:lastModifiedBy>Arianna</cp:lastModifiedBy>
  <dcterms:modified xsi:type="dcterms:W3CDTF">2005-11-16T09:46:28Z</dcterms:modified>
  <cp:revision>1</cp:revision>
  <dc:subject/>
  <dc:title>2005-2006  School Year Calen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659461033</vt:lpwstr>
  </property>
</Properties>
</file>