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0D9C-1B00-4D48-B81A-638DD7406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39C6-2A2F-4ED8-999F-A9DDC43D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F8C4-CC7E-4C3D-89F6-FF08306A6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0CEF-2CC1-475E-9386-861A1ACF7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6123-ED0A-4779-B95F-584C255A4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AC48-9F62-4F1B-9AF5-B7A93B0E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B4CB-8887-49D6-BA31-BEB08C12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FCE2C-E43D-4D83-93AF-0A85C4AC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56C6-C9B8-4FE4-A79D-750200F8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9A80-CFCE-495D-8460-9688EC20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B1FE-6D81-4E48-BE25-C17B6181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A579-1495-4287-BB5B-28267005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D14B-C1F8-455A-A248-767427A2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FB52-E732-4BC5-828F-4F3BDB1B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85333-A83D-4727-8ED5-2AED375C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AB7E-BCDE-4D89-AD6D-A3C510131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F59D-42CA-4AA0-B287-68EACF27F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C520-8B8A-4B92-A393-640DC7E4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21A7-5C62-4588-AF7C-8842392E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95A1-FED7-4720-8ED3-A428C8AF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203F-CB25-42E9-BC30-5F791FD1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76FB-6B7A-4655-B91A-B81ABC29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E668-CFEE-4785-A857-7C7314A8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F4A6-4E38-4041-B2EC-AFDED43B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44A8-66A0-432C-8C9E-0C8279E1066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867280"/>
            <a:ext cx="1287000" cy="919080"/>
            <a:chOff x="7920" y="5867280"/>
            <a:chExt cx="1287000" cy="919080"/>
          </a:xfrm>
        </p:grpSpPr>
        <p:sp>
          <p:nvSpPr>
            <p:cNvPr id="9" name=""/>
            <p:cNvSpPr/>
            <p:nvPr/>
          </p:nvSpPr>
          <p:spPr>
            <a:xfrm>
              <a:off x="29520" y="5884560"/>
              <a:ext cx="1247040" cy="75996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172520" y="5974920"/>
              <a:ext cx="81000" cy="150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4840" y="6199560"/>
              <a:ext cx="907200" cy="479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49760" y="6239520"/>
              <a:ext cx="601200" cy="437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57640" y="5916240"/>
              <a:ext cx="154440" cy="14148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6200" y="6655320"/>
              <a:ext cx="86760" cy="1310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79240" y="6004080"/>
              <a:ext cx="220680" cy="44856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67160" y="5984280"/>
              <a:ext cx="416520" cy="20340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99240" y="6104880"/>
              <a:ext cx="178560" cy="7848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867280"/>
              <a:ext cx="1287000" cy="913320"/>
              <a:chOff x="7920" y="5867280"/>
              <a:chExt cx="1287000" cy="91332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573480" y="5951160"/>
                <a:ext cx="627480" cy="829440"/>
                <a:chOff x="573480" y="5951160"/>
                <a:chExt cx="627480" cy="82944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573480" y="5980320"/>
                  <a:ext cx="179640" cy="10152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30440" y="6624720"/>
                  <a:ext cx="131400" cy="15588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151640" y="5951160"/>
                  <a:ext cx="49320" cy="13680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88920" y="6150600"/>
                <a:ext cx="681480" cy="2926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99880" y="6330960"/>
                <a:ext cx="279360" cy="17316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649080" y="6089760"/>
                <a:ext cx="122400" cy="278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867280"/>
                <a:ext cx="1287000" cy="794160"/>
                <a:chOff x="7920" y="5867280"/>
                <a:chExt cx="1287000" cy="79416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768240" y="6520680"/>
                  <a:ext cx="85680" cy="10152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6145920"/>
                  <a:ext cx="964080" cy="51552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3480" y="6195240"/>
                  <a:ext cx="91440" cy="19548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516240" y="5867280"/>
                  <a:ext cx="368640" cy="69552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664200" y="6054480"/>
                  <a:ext cx="109800" cy="29520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377640" y="6031080"/>
                  <a:ext cx="223200" cy="15804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755640" y="5923440"/>
                  <a:ext cx="539280" cy="2480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823320" y="6003000"/>
                  <a:ext cx="280440" cy="100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3785-5323-4039-8E23-CC0CCC035C1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361960"/>
            <a:ext cx="6705720" cy="1447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ass Rules for Mr. Barr’s 3</a:t>
            </a:r>
            <a:r>
              <a:rPr b="0" lang="en-US" sz="4000" spc="-1" strike="noStrike" baseline="30000">
                <a:solidFill>
                  <a:srgbClr val="ff0000"/>
                </a:solidFill>
                <a:latin typeface="Comic Sans MS"/>
              </a:rPr>
              <a:t>rd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Grade Class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are the rules we will follow this year to learn, play, and have fun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room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4724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pect and be kind to othe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sten carefully to directions, and obey them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 not touch othe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 quietly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 and play safel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ise your hand before you ask a quest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sten quietly while others are speakin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 not bring toys or gum to clas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boy"/>
          <p:cNvPicPr/>
          <p:nvPr/>
        </p:nvPicPr>
        <p:blipFill>
          <a:blip r:embed="rId1"/>
          <a:stretch/>
        </p:blipFill>
        <p:spPr>
          <a:xfrm>
            <a:off x="5410080" y="2286000"/>
            <a:ext cx="2778120" cy="2805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6832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4800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ey all our school rule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pect our school’s proper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 quiet in lines, hallways, and restroom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lk only, no runnin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y in line, and stay on the right side of the hall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ways have a hall pas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boy and teacher"/>
          <p:cNvPicPr/>
          <p:nvPr/>
        </p:nvPicPr>
        <p:blipFill>
          <a:blip r:embed="rId1"/>
          <a:stretch/>
        </p:blipFill>
        <p:spPr>
          <a:xfrm>
            <a:off x="5334120" y="2286000"/>
            <a:ext cx="2787480" cy="3325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unchtime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4800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nd in line and wait your turn to be served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n’t play with or throw your foo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ean your table before you leav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lk only, no runnin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n’t take food out of the cafeteri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lunchbox"/>
          <p:cNvPicPr/>
          <p:nvPr/>
        </p:nvPicPr>
        <p:blipFill>
          <a:blip r:embed="rId1"/>
          <a:stretch/>
        </p:blipFill>
        <p:spPr>
          <a:xfrm>
            <a:off x="5486400" y="2286000"/>
            <a:ext cx="2787480" cy="271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r Promi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4876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 will get along with each other and with our teacher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 will be friendly to everyon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 will be kind to each other: No putdowns, making fun of, or singling out anyon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 will take turns and shar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 will respect others’ proper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students"/>
          <p:cNvPicPr/>
          <p:nvPr/>
        </p:nvPicPr>
        <p:blipFill>
          <a:blip r:embed="rId1"/>
          <a:stretch/>
        </p:blipFill>
        <p:spPr>
          <a:xfrm>
            <a:off x="5680080" y="3065400"/>
            <a:ext cx="2778120" cy="1830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8880" y="153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r Agre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have read the class rules and agree to follow the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_________________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udent Name and Signa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09:32:26Z</dcterms:created>
  <dc:creator>Arianna</dc:creator>
  <dc:description/>
  <cp:keywords/>
  <dc:language>en-US</dc:language>
  <cp:lastModifiedBy>Arianna</cp:lastModifiedBy>
  <dcterms:modified xsi:type="dcterms:W3CDTF">2005-11-16T09:32:39Z</dcterms:modified>
  <cp:revision>1</cp:revision>
  <dc:subject/>
  <dc:title>Class Rules for Mr. Barr’s 3rd Grade Cla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3649261033</vt:lpwstr>
  </property>
</Properties>
</file>