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media/image8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11426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11426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349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349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352680" y="3962520"/>
            <a:ext cx="24386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nack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snack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nacks a day children should eat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licit class feedback on healthy snack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keep a daily food diary for a week, and to eat their favorite foods in each group to meet the daily requiremen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do research on any new finding about food and health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continue keeping a food diary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sk your school nurse or doctor to visit the class to share facts about food and health on an ongoing basis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324480" cy="243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Briefly describe the point of this lesson, which is that the class will be learning about the relationship between good nutrition and health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1201680"/>
            <a:ext cx="5399280" cy="458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5726160" y="182880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ats, Oils &amp; Swee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USE SPARING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281952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at, Poultry, Fish, Dry Beans, Eggs &amp; Nuts Grou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3 SERV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90880" y="27496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ilk, Yogurt &amp; Cheese Grou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3 SERV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8322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Vegetable Grou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3-5 SERV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8840" y="39290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ruit Grou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4 SERV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88320" y="4529160"/>
            <a:ext cx="121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read, Cereal, Rice &amp; Pasta Grou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6-11 SERV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895480" y="3868560"/>
            <a:ext cx="152280" cy="761760"/>
            <a:chOff x="2895480" y="3868560"/>
            <a:chExt cx="152280" cy="761760"/>
          </a:xfrm>
        </p:grpSpPr>
        <p:sp>
          <p:nvSpPr>
            <p:cNvPr id="94" name=""/>
            <p:cNvSpPr/>
            <p:nvPr/>
          </p:nvSpPr>
          <p:spPr>
            <a:xfrm>
              <a:off x="2895480" y="38685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3868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4630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352680" y="2801880"/>
            <a:ext cx="152280" cy="761760"/>
            <a:chOff x="3352680" y="2801880"/>
            <a:chExt cx="152280" cy="761760"/>
          </a:xfrm>
        </p:grpSpPr>
        <p:sp>
          <p:nvSpPr>
            <p:cNvPr id="98" name=""/>
            <p:cNvSpPr/>
            <p:nvPr/>
          </p:nvSpPr>
          <p:spPr>
            <a:xfrm>
              <a:off x="3352680" y="2801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2680" y="2801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3563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05360" y="4859280"/>
            <a:ext cx="152280" cy="761760"/>
            <a:chOff x="6705360" y="4859280"/>
            <a:chExt cx="152280" cy="761760"/>
          </a:xfrm>
        </p:grpSpPr>
        <p:sp>
          <p:nvSpPr>
            <p:cNvPr id="102" name=""/>
            <p:cNvSpPr/>
            <p:nvPr/>
          </p:nvSpPr>
          <p:spPr>
            <a:xfrm>
              <a:off x="6857640" y="4859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705360" y="4859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705360" y="5621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76760" y="3944880"/>
            <a:ext cx="152280" cy="761760"/>
            <a:chOff x="6476760" y="3944880"/>
            <a:chExt cx="152280" cy="761760"/>
          </a:xfrm>
        </p:grpSpPr>
        <p:sp>
          <p:nvSpPr>
            <p:cNvPr id="106" name=""/>
            <p:cNvSpPr/>
            <p:nvPr/>
          </p:nvSpPr>
          <p:spPr>
            <a:xfrm>
              <a:off x="6629040" y="3944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6760" y="394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76760" y="470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19560" y="2819520"/>
            <a:ext cx="152640" cy="896760"/>
            <a:chOff x="6019560" y="2819520"/>
            <a:chExt cx="152640" cy="896760"/>
          </a:xfrm>
        </p:grpSpPr>
        <p:sp>
          <p:nvSpPr>
            <p:cNvPr id="110" name=""/>
            <p:cNvSpPr/>
            <p:nvPr/>
          </p:nvSpPr>
          <p:spPr>
            <a:xfrm>
              <a:off x="6172200" y="2819520"/>
              <a:ext cx="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01956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01956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410440" y="1811160"/>
            <a:ext cx="152280" cy="761760"/>
            <a:chOff x="5410440" y="1811160"/>
            <a:chExt cx="152280" cy="761760"/>
          </a:xfrm>
        </p:grpSpPr>
        <p:sp>
          <p:nvSpPr>
            <p:cNvPr id="114" name=""/>
            <p:cNvSpPr/>
            <p:nvPr/>
          </p:nvSpPr>
          <p:spPr>
            <a:xfrm>
              <a:off x="5562720" y="18111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410440" y="1811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410440" y="2572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56272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14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frui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ervings a day children should eat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health benefits of frui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vegetable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ervings a day children should eat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health benefits of vegetabl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ats, Beans, and Nu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meats, beans, and nu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ervings a day children should eat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health benefits of meat, beans, and nu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lk, Yogurt, and Chees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dairy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ervings a day children should eat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health benefits of  dairy produc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read and Pasta Group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a few examples of bread and pasta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servings a day children should eat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health benefits of bread and past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ts, Oils, and Swe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st examples of fats, oils, and swee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uss how many daily servings at most children should eat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gether, research and discuss the risks associated with eating too much fat and too many swee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licit class feedback on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1:51Z</dcterms:created>
  <dc:creator>Arianna</dc:creator>
  <dc:description/>
  <cp:keywords/>
  <dc:language>en-US</dc:language>
  <cp:lastModifiedBy>Arianna</cp:lastModifiedBy>
  <dcterms:modified xsi:type="dcterms:W3CDTF">2005-11-16T09:32:07Z</dcterms:modified>
  <cp:revision>1</cp:revision>
  <dc:subject/>
  <dc:title>th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