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9AF-F0F1-40D0-9373-9928D70B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37E-A420-4774-90B0-5623CB4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586-FA27-49C4-A0C7-D4C87025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34B-BDAF-448D-A541-E2D73062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385-85EC-4946-A857-51736CD1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9B2-EC5E-4EF6-9D4B-3AB6053F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604-0351-4D68-8406-22D114F2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248-06EE-40D0-BD00-EFEB791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A07-6F49-4F16-994A-8621F8B8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C42-90A7-4516-9356-134D5C6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F47-F750-46FA-8040-F48EC6D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863-485C-4106-B9A4-808B761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284-B990-4AB2-B61A-23648AA7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139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 Gothic"/>
              </a:rPr>
              <a:t>Multiplicat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95280" y="1066680"/>
          <a:ext cx="6845400" cy="5105520"/>
        </p:xfrm>
        <a:graphic>
          <a:graphicData uri="http://schemas.openxmlformats.org/drawingml/2006/table">
            <a:tbl>
              <a:tblPr/>
              <a:tblGrid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</a:tblGrid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21:29Z</dcterms:created>
  <dc:creator>Arianna</dc:creator>
  <dc:description/>
  <cp:keywords/>
  <dc:language>en-US</dc:language>
  <cp:lastModifiedBy>Arianna</cp:lastModifiedBy>
  <dcterms:modified xsi:type="dcterms:W3CDTF">2005-11-16T09:21:47Z</dcterms:modified>
  <cp:revision>1</cp:revision>
  <dc:subject/>
  <dc:title>Multiplication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900071033</vt:lpwstr>
  </property>
</Properties>
</file>