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9B4-8349-407A-BB62-D5AC482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50A-B8B5-4E88-9A3A-CE4D2C2F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FD8-E49A-4D23-8254-8F9FD658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5F-0799-4FEF-8C48-70DDF2BD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4880-9774-4736-B145-9BF29BE0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3FB-6155-499D-AD36-3501235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8F39-CF57-4A26-842B-222248D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9B2-111E-42F5-879A-D7928F7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2674-7164-4B19-92A5-71C61CB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272-6BD0-4C53-AE6D-BDFED369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D6D2-71BF-4518-A40B-31DB8C1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BE1-29D1-4E11-98F4-644DB864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C1C4-DE32-4572-A994-9F8AE43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A744-DEB5-4073-BD2C-0026053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CF04-33AD-477A-8106-C031F84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E18-1C63-4086-A76D-96273284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C7E4-2074-4657-AC92-7F6EC87A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349-111C-4A67-9687-C1BAD8F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5E7-BCBB-480E-AFC5-9BB049B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25D-3379-4B24-B301-5BEC497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494-FEA7-459D-A533-2509BF3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079-9CE3-468F-876C-B1A9788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F2C-11CF-4786-91CF-E9D6972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D48-7A2E-4C85-8437-9190F25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CB3-4408-4A7C-97D3-E3766D5A4B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327-0328-48E0-AA89-F23DCCA90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OPEN HOUSE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42520" y="2895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chool Name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ate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andout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ranslate handouts for parents for whom English is a second language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Handouts might includ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school phone numbers, e-mail addresses, and Web site address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Copies of classroom and school polici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materials that children will need fo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Welcome Parents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Welcome parents to your classroom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List the goals for the open hous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help parents understand the work their child will be doing throughout the school ye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explain your expectations of their chil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share information about how parents can support their child’s learning.</a:t>
            </a: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urriculum Goal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what the students will study during the school year, including the overall curriculum plans and goal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clude a detailed, colorful syllabus for parents to take hom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uggest ways that parents can help their child learn, such as reading together for 20 minutes a day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Use more than one slide to cover this information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In-Class Activity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82736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vite parents to take part in an activity, and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hen discuss it. Some ideas include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olving a math problem, such as estimating the number of beans in a j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Writing an encouraging letter to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Going on a classroom scavenger hunt for their child's work, the books their child likes best, and messages from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Information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students will be evaluated and grade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ell parents when report cards and progress reports will be sent hom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the amount of homework students can expect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a calendar of upcoming events, such as class field trips and parent-teacher conference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Rul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82320" y="1964880"/>
            <a:ext cx="6502680" cy="37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Explain the behavior you expect in your classroom. 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Your class rules might include: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ectfu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onsible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Follow directions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unctua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organiz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a self-starter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repar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School Polici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the school addresses academic and behavioral problem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Outline the school's policies regarding tardiness, absence, and disciplin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policy information about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School cancellations for bad weather and other reasons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Emergency procedur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Transportation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After-school activiti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Volunteering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Get Involved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List opportunities for parents to become involved in volunteer programs, advisory councils, and the PTA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sign-up sheets for parents who are interested in helping to plan parties or special projects for you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Questions?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ake questions from parents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Ask parents to fill out a questionnaire about their child.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areas in which they would like to see their child improv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their child's personality, interests, and talent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1:15Z</dcterms:created>
  <dc:creator>Arianna</dc:creator>
  <dc:description/>
  <cp:keywords/>
  <dc:language>en-US</dc:language>
  <cp:lastModifiedBy>Arianna</cp:lastModifiedBy>
  <dcterms:modified xsi:type="dcterms:W3CDTF">2005-11-16T09:31:25Z</dcterms:modified>
  <cp:revision>1</cp:revision>
  <dc:subject/>
  <dc:title>OPE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33</vt:lpwstr>
  </property>
</Properties>
</file>